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95FA-BF37-43CB-9017-0EDBF2E6030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085760" y="868320"/>
            <a:ext cx="4626000" cy="34704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lcome to the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E7E0-2178-4BB5-B088-9D8580BDEF8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 consultation should be at the center of the process, as it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ving fo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2012-7975-4092-A5E5-FFA1F72F59E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mor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formation see the main ‘useful links’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BE1C-1065-40C8-ABB4-B82401DA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1ED3-96A9-48E2-9F1A-C154DC97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F00F-1D74-4AD8-AD5A-6DC28DE83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1DB4-BB21-4681-8172-FC6C7B0E9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150B-C286-4172-B23D-A0BC2761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7508-7E12-4104-A1C8-19362E65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EFC9-83F7-4089-8D8B-AC0F588B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1A27-14E8-4C77-85AD-F21D372F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85E5-DB77-4764-858E-8CDB79DF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930A-C1A1-46E6-BF3B-D138E5E4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4964-9FD7-4B0C-A058-75205338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8543-7BD5-4A14-BD2D-43649904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DC50-BE74-4AA9-ACEA-5CE92D7960E2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34000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alibri"/>
                <a:ea typeface="Arial"/>
              </a:rPr>
              <a:t>The User Experience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Dr Andy Ev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4582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user experi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0560" y="1699920"/>
            <a:ext cx="871380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people design for geek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need to design for the general public,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ak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dvanced functions available for those that want th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should try to help the user by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Using familiar keys and menus (e.g. Ctrl + C for copy)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ncluding help systems and tutorial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a.m4a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signing for us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560" y="177300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t every stage when designing the GUI, think “is it obvious what this does?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ke all screens as simple as possibl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rs learn by trying stuff - they rarely read manuals, so think carefully about what the default behavior of any function should b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de complex functionality and the options to change defaults in ‘Options’ menu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st of all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onsult and tes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b.m4a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583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itial consultati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8920" y="2133720"/>
            <a:ext cx="8812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r consultation is a vital part of development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rs should be consulted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 If the users don’t like your software, you’re sunk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nd out what people expect to get from the system before adding extras. If it helps draw UML User Case diagram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r Cases can be used to break a large project up into smaller bits. Do the most difficult important bits first if possible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d.m4a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507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sability tes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0560" y="1773000"/>
            <a:ext cx="8713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n you think you have a bit users are interested in up and running, test its ‘usability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t your users down with the software and get them to play with i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’s useful to set them common tasks to d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e how long they take to do stuff, and what they do that’s unexpected. Some companies use mirrored window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member, users don’t make mistakes - it’s your fault if you lead them the wrong way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e.m4a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507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le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920" y="170028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 you’ve been testing enough you shouldn’t have any usability problems. Most problems will be bugs from users doing unusual thing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release alpha and beta versions to a broader number of testers or the public to test for bugs and at the same time ask for user commen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t this point you’ll need to delimit time for.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r improvements (should be minima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factoring (simplifying the cod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xing bug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you try and do two at once it’s bound to get confus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f.m4a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0920" y="2133720"/>
            <a:ext cx="8740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ways design assuming the user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Will experiment rather than read the manual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Will base these experiments on what they expect to find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ways base the software design around what the user wan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ways test the user’s opinions and the usability as you develop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g.m4a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21:15:11Z</dcterms:created>
  <dc:creator>cyan</dc:creator>
  <dc:description/>
  <dc:language>en-US</dc:language>
  <cp:lastModifiedBy>Linus</cp:lastModifiedBy>
  <cp:lastPrinted>2012-11-13T09:05:08Z</cp:lastPrinted>
  <dcterms:modified xsi:type="dcterms:W3CDTF">2013-07-17T00:00:43Z</dcterms:modified>
  <cp:revision>176</cp:revision>
  <dc:subject/>
  <dc:title>PowerPoint Presentation</dc:title>
</cp:coreProperties>
</file>