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6102-FB38-40FD-8305-77A59B99A1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098720" y="86364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come to the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9D29-6F78-484C-AFD8-0100330ED3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ML is not a replacement for docu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resource for information on UML is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-306.ibm.com/software/rational/um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addition see the course booklist page for details of “UML Distilled” – which is a simple introduction to this complex spec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best introduction are the articles written by Steven Palmer on the “Useful Links” web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985E-DAA8-4523-82F5-4323B61624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F860-4491-4151-9C9A-FD3CCA7602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n’t get too hung up on using the whole spec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104A-01A0-484E-B5E2-082C54E074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’ve seen some pseudo-UML in the practicals – from now on we’ll start using the real 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41AC-5270-495D-8821-D91DF61634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5C8-EB9A-497E-8242-7D54D9EF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E19-3083-41F0-AACD-FD1073B9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CB2-25BA-4F4C-A653-64CCF92F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6B1-16DB-43C2-B500-C38C6B87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4D6-8C38-4888-873F-770065E3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631-592B-4494-889F-813428B8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302-602E-4BDF-8408-C09642EF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882-18BC-4AFB-B99A-29E9EFEE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845-533A-4F5D-9D3A-08A6121A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E4F-6867-4204-A629-9856E40A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6E8-A8D4-4B25-92AD-B83D07E5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8B05-7B5F-409C-8A4D-EA05E3CE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3499-9A9B-463E-BBB9-2679EDF668B2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40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  <a:ea typeface="Arial"/>
              </a:rPr>
              <a:t>UML: The Unified Modelling Languag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r Andy Ev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M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920" y="2420640"/>
            <a:ext cx="858816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Unified Modelling Languag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way of drawing code overviews so that it’s understood by any programm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ually part of a software development ‘process’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ML is an overview. Once developers have seen your UML, they’ll look at your documentation for more inform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an be converted into raw code using som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uter Aided Software Engineerin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(CASE) too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a.m4a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have an overview standar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2349000"/>
            <a:ext cx="878544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industry code tends to be part of much larger projects with multiple programmers working on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fore we need standard overviews so tha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6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We can see whether an application can be made and how many people we’ll need to work before we start coding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6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We can see where our code fits in when we star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6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We can see how to use other people’s object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6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If you spontaneously combust, others can pick up your work easily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b.m4a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arts of UM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2060280"/>
            <a:ext cx="858816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re are several types of model in the UML. Which one you use, and how you look at it, will depend on what you’re trying to d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secret is to use what’s usefu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ypes of diagram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46040" indent="61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Use Cases (What are the uses someone [or thing] may want from our software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46040" indent="61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lass Diagrams (What are the different relationships between Classes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46040" indent="61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Sequence Diagrams (What order does stuff happen in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46040" indent="61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State/Activity Diagrams (What are Classes like over time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46040" indent="6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.m4a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e Class 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/+/# = private/public/prote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lid arrow is inheritance from a class/abstract class. Interfaces have dashed arrows and are writt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&lt;&lt;Point&gt;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bstract classes are either light font or, more usually, ital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ariables at top, methods at bott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UML"/>
          <p:cNvPicPr/>
          <p:nvPr/>
        </p:nvPicPr>
        <p:blipFill>
          <a:blip r:embed="rId1"/>
          <a:stretch/>
        </p:blipFill>
        <p:spPr>
          <a:xfrm>
            <a:off x="4500720" y="2708280"/>
            <a:ext cx="4319280" cy="3768840"/>
          </a:xfrm>
          <a:prstGeom prst="rect">
            <a:avLst/>
          </a:prstGeom>
          <a:ln w="0">
            <a:noFill/>
          </a:ln>
        </p:spPr>
      </p:pic>
      <p:pic>
        <p:nvPicPr>
          <p:cNvPr id="61" name="d.m4a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ctivity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989000"/>
            <a:ext cx="8362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placement for older flowchar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eginning and end marked by circ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(end by a double circle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amonds for decis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arallel code marked by ba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Google Drive\Programming for Social Scientists\materials\coding\uml\images\activity2.gif"/>
          <p:cNvPicPr/>
          <p:nvPr/>
        </p:nvPicPr>
        <p:blipFill>
          <a:blip r:embed="rId1"/>
          <a:stretch/>
        </p:blipFill>
        <p:spPr>
          <a:xfrm>
            <a:off x="4643280" y="2428920"/>
            <a:ext cx="4102200" cy="3860640"/>
          </a:xfrm>
          <a:prstGeom prst="rect">
            <a:avLst/>
          </a:prstGeom>
          <a:ln w="0">
            <a:noFill/>
          </a:ln>
        </p:spPr>
      </p:pic>
      <p:pic>
        <p:nvPicPr>
          <p:cNvPr id="65" name="e.m4a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15:06:36Z</dcterms:created>
  <dc:creator>cyan</dc:creator>
  <dc:description/>
  <dc:language>en-US</dc:language>
  <cp:lastModifiedBy>Linus</cp:lastModifiedBy>
  <dcterms:modified xsi:type="dcterms:W3CDTF">2013-07-04T12:08:25Z</dcterms:modified>
  <cp:revision>115</cp:revision>
  <dc:subject/>
  <dc:title>Lecture 5.  The Core Java Language  – Packages and Exceptions</dc:title>
</cp:coreProperties>
</file>