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4D3A-B440-430A-880A-5DD35E990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098720" y="86364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to the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39C2-C4C6-4E19-A09B-950CDB409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vironment any given Java program runs in is encapsulated by a java.lang.Runtime Object. The current Runtime can be obtained with a Runtime static Meth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esigning a method we should decide on the behaviour the method should display in both correct functionality and also in unexpected circum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behaviour has been designed tests are designed and written to test that behaviour under particular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when the complete test suite is finished do you start to write the code to satisfy the t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efits of this approach is the robust nature of the code and the ease of making future changes.  It also works well with continuous integration as a development process because it is immediately obvious when a code change ‘breaks’ a bu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drawback to this approach is the upfront time and effort in designing and developing the tests.  This tends to be about 75% of development time and can be a significant financial over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11A4-CF42-4299-8590-157D76BE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D0F-5026-46EB-9B65-D23D8BD2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086-735D-49AA-A60D-C412F0A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7A4-FA0E-4403-BDEA-951526E6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408-3CAB-4DE6-B8F5-CC10E697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5F3-F286-4B5B-97CC-D028015C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9B3-2C76-409C-A859-9BCE8C4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CAA-D011-4C39-BCAA-E97B2348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DCC-25C9-4DDA-968C-94069806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35A-5AF4-474A-9605-C13DE518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C86-59A0-45C1-AA61-78F813F5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260-1397-4C8C-8902-2F4C5AA0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306-B70A-4705-8ABD-A41BE77B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872C-7A76-4ED2-9540-F033DEB9BB8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  <a:ea typeface="Arial"/>
              </a:rPr>
              <a:t>Testing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r Andy Evans and Dr Kirk Ha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ming a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4692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t the current time in various places and print it 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long time = System.currentTimeMillis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millisecond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is since January 1, 1970, 00:00:00 GM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you want to see this as a proper date, use a java.util.Date ob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new Date(long </a:t>
            </a:r>
            <a:r>
              <a:rPr b="1" i="1" lang="en-GB" sz="2600" spc="-1" strike="noStrike">
                <a:solidFill>
                  <a:srgbClr val="558ed5"/>
                </a:solidFill>
                <a:latin typeface="Courier New"/>
              </a:rPr>
              <a:t>milliseconds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thods to find if a date is before or after a Date, or set the date in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a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hecking mem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484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uters store most of the information they need to do processing in a memory chi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the space available is exceeded by the data, most write to </a:t>
            </a:r>
            <a:r>
              <a:rPr b="0" lang="en-GB" sz="2400" spc="-1" strike="noStrike">
                <a:solidFill>
                  <a:srgbClr val="558ed5"/>
                </a:solidFill>
                <a:latin typeface="Calibri"/>
              </a:rPr>
              <a:t>Virtual Memory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– this is part of the harddrive and acts as if it’s “real” memo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ing Virtual Memory is slow, because it uses magnetic media that are slow to write 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the Virtual Memory is exceeded, processing will become very slow, and the system unstable. Java therefore has built in memory lim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b.m4a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ding out about the 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member, the environment the program is running in is encapsulated by a </a:t>
            </a: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java.lang.Runtim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current Runtime can be got with a static metho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Runtime rt = Runtime.getRuntim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time has methods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Deal with the computer memor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Interact with the JVM interprete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.m4a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mem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5881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Java copes with memory well, but occasionally we may want to check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r example, if a file is much larger than the real memory, we may want to only read in small chunks at a 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f497d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runtimeObject.freeMemory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runtimeObject.totalMemory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se return the free and total memory available in the compu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d.m4a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66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arbage Col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64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8ed5"/>
                </a:solidFill>
                <a:latin typeface="Calibri"/>
              </a:rPr>
              <a:t>Garbage Collectio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a general computing term for clearing up objects we no longer need from memo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ects will stay in memory until collected, even if not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ava does automatic Garbage Collection, when memory gets low, but you may want to force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558ed5"/>
                </a:solidFill>
                <a:latin typeface="Courier New"/>
              </a:rPr>
              <a:t>runtimeObject.gc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.m4a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nit Tes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way to ensure that methods have the desired ‘behaviour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cide on behavi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rite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rite code to satisfy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ime consu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es robust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uture maintenance is ea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f.m4a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ther tes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ress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pha/Beta rel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ftware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.m4a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9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od code structure centres on building to interfaces: are the inputs and outputs to methods and classes reliable, and do they respond well if things go wr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t this right, and you’ll minimise bu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it testing formalises th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ever, also test usability and go through alpha and beta test rel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h.m4a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6T13:28:18Z</dcterms:created>
  <dc:creator>Andrew Evans</dc:creator>
  <dc:description/>
  <dc:language>en-US</dc:language>
  <cp:lastModifiedBy>Linus</cp:lastModifiedBy>
  <dcterms:modified xsi:type="dcterms:W3CDTF">2013-07-19T01:28:49Z</dcterms:modified>
  <cp:revision>137</cp:revision>
  <dc:subject/>
  <dc:title>PowerPoint Presentation</dc:title>
</cp:coreProperties>
</file>