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F328-2509-493D-ABF2-79DFCB10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nban and SCRUM are widely used for communication between large development teams. Taken from process design research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nban Toyota – Japanese for ticket, have swim lanes on a board and the aim is to move tickets from a backlog across a board as quickly as possible in an accepted area.  Every 2 weeks or so a ‘Product Owner’ will either accept or reject development progress against a ti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UM is a way of making sure the whole development team knows what is going on, normally a ten minute stand up meeting around a Kanban board highlighting progress, issues and blockers so that everyone in the team is aware if they are needed to progress a particular ti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most of these development techniques is a short development sprint which puts the user in the driving seat and ensures critical must have development is completed first.  It also provides continuous feedback for the developmen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ntegration ensures that all developers integrate their code, rather than having two developers working in isolation producing modules that will not work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9CA-5027-4038-AEE8-C6A8A298B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158-CB4C-4898-A83B-CACB776D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062-C495-44C1-9236-942EC6E5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CD4-C929-4B6C-A5E2-8044556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47C-9C67-4935-9057-AB522BA1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97F-585A-4E4A-B618-6259D67D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815-A2B8-4A46-B3D8-CE09D2E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743-4705-4212-973B-1904FB4F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C6E-6C3D-4DD0-BD22-202AF15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0C2-C8BD-4119-8687-FF10C0EF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B14-EB1D-46F8-A898-A89F891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A32-9F12-43FC-A275-24E429F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1B6-BD20-4EFE-ADBE-FB2EA23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750-13D6-4B6A-89A8-EA27F46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332-8C94-40E7-83ED-9D906E81AFE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The Development Proces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 and Dr Kirk Ha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ting a strong project outline at the start will help you resource a project, as will having a clear delimitation of coding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ever, project frameworks need to have flexibility built in to cope with project evolution. Start with an ordered list of functionalities, but consult with users frequen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ok into formal software development processes if you have to work with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.m4a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siderable debate around how best to manage software develop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st proposed ‘processes’ have a parentage in the ‘Waterfall Model’; roughl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llation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in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ke a good many parents who try their best, its children have nothing good to say about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ritiq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rgely focused on the fact that software was never fully completed, but always being re-visited at different scales. In particular, it is unhelpful not to go back to users and consult once a basic system is draf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r alterative is Iterative and Incremental development, where, after initial Requirements are outlined, there is a cycling through the development units, taking important and high-risk elements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sometimes combined with the Waterfall model as the ‘Iterfall model’. Experience suggests the broad sweep of this matches with beginner’s natural inclin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ew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d on the Iterative and avoiding the over-management of the Waterfall method: Agile software development processes includ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tional Unified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treme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anban and SCRUM for 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rt development spr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inuous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 issue is to concentrate on user ne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 intrinsic part of the development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: Us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ough: Class Dia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: Activity Dia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velopment s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fining user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viding code (e.g. by important high-risk functions firs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eeping users in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ability tes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g hun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facto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pha and Beta tes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ing on the next set of functions to tack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reasingly releases tackle a few functions on a short timescale rather than major releases with a longer gap (“RERO”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cen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options on a spectru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intenance contr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stand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bui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w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w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erci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f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Eth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77300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pidly growing fi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itional el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vacy and data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right and Pi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ftware supplier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g Data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botic 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ol by comp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grating computers into our world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good starting point for the newer stuff is Florid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t 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The Cambridge Handbook of Information and Computer Ethics"/>
          <p:cNvPicPr/>
          <p:nvPr/>
        </p:nvPicPr>
        <p:blipFill>
          <a:blip r:embed="rId1"/>
          <a:stretch/>
        </p:blipFill>
        <p:spPr>
          <a:xfrm>
            <a:off x="7164360" y="177336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g.m4a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58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ee parts to install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Get the files to them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heck they have the JD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et them run the program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ally we want to let them run by double-clicking a name or ic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an get them to set this up as a shortcut themselv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an compile as a .ex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an use a self-executing jar fil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an use a .bat file or wrapping ex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.m4a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3:28:18Z</dcterms:created>
  <dc:creator>Andrew Evans</dc:creator>
  <dc:description/>
  <dc:language>en-US</dc:language>
  <cp:lastModifiedBy>Linus</cp:lastModifiedBy>
  <dcterms:modified xsi:type="dcterms:W3CDTF">2013-07-18T22:58:24Z</dcterms:modified>
  <cp:revision>138</cp:revision>
  <dc:subject/>
  <dc:title>PowerPoint Presentation</dc:title>
</cp:coreProperties>
</file>