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BC5-929E-413B-BC00-BA2F578E8BD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0960" cy="3195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F5E-4BC9-4A76-8BAF-47A9972C53C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A366-E414-4426-B6F4-35BCB7D6CF5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908-EB0F-45D1-948B-2ED4719410C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B16-4D09-4342-AE73-8DD42DD4981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390-EA8B-4318-900F-D61BB114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1DA-F24A-44FC-9446-AA81422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976-5BF2-4129-A142-9B2CF3A8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7BB-5632-4CBA-A466-BDC01B6C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0F2-13E6-4A5E-BEF0-75BD7EC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6FB-6EC6-41E3-AB48-C497398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593-485E-490D-A280-33D3846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73C-3A58-4528-AB15-4AA0D1E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6CF-F978-49AF-B0A2-D6C84B45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EA7-05FA-4159-9CBE-BBADE2A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E53-D9F8-47C5-BAA5-82BF4A1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F5D-CE41-4E63-AF59-27390FA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767F-0059-4D80-9DAF-53D5C55B225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Integrated Development Environments (IDE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oling 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644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you do real programming, it’s unlikely you’ll do it with Notepad++ and the command lin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’ll probably use an 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Integrated Development Environm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ID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make your life ea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y take a little time to learn to use, but are worth the inves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IDE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588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ually have Syntax colouring (e.g. will colour keywords, strings, method names etc.) and line numbers, like Notepad++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sh-button format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ually have one-push compiling and run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ually have run-time debugging – stops when your code breaks, shows you where, and tells you the problem. Usually have a facility for stepping through code one line at a time, and watching how variables change. Some will highlight errors as you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ten have “auto-complete” drop down lists – you type an Object’s name, and they give drop-down lists of the potential metho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ing to other people’s c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ther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64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software lets you draw user interfaces and writes the code for you. It may or may not then let you alter that cod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Computer 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ASE tools help structure the development process. They may contain facilities for generating UML, converting UML into code, and for seeing which classes are dependent on each othe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UML – a way of drawing code – we’ll come back to thi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Profilers/Refactor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how unused code and speed bottleneck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30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llow quick altering of multiple fil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ther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644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Build scrip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oftware that reads scripts that compile your code into different form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Version and repositor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inks to online repositories that store code and maintain different versions you can roll-back t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Native comp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mpilation to executables that don’t rely on the JVM, or wrappers for code to install and run the JVM when appropriat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pular Java I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re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tbeans (Orac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tbeans.or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lipse (IB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eclipse.or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Developer (Oracle; originally based on JBuilder; specifically f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terprise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oracle.com/technetwork/developer-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ols/jdev/overview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lueJ (Kent Uni; Basic beginners 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bluej.or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merci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lliJ IDEA (JetBrains; there is a free ver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jetbrains.com/ide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Builder (Was Borland, now Embarcade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embarcadero.co.uk/products/j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7885080" y="105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etbea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364000" y="177336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advantage of  being built by Oracle, therefore well tied to J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ten in Java, so developers can use it as the foundation for other software and build plugins for it in J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63520" y="1724040"/>
            <a:ext cx="4351320" cy="2959200"/>
          </a:xfrm>
          <a:prstGeom prst="rect">
            <a:avLst/>
          </a:prstGeom>
          <a:ln w="0">
            <a:noFill/>
          </a:ln>
        </p:spPr>
      </p:pic>
      <p:pic>
        <p:nvPicPr>
          <p:cNvPr id="67" name="f.m4a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4800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ts of plugins for major pieces of software (e.g. ArcG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770360" cy="3255840"/>
          </a:xfrm>
          <a:prstGeom prst="rect">
            <a:avLst/>
          </a:prstGeom>
          <a:ln w="0">
            <a:noFill/>
          </a:ln>
        </p:spPr>
      </p:pic>
      <p:pic>
        <p:nvPicPr>
          <p:cNvPr id="71" name="g.m4a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397044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what best suits your pract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have a go at both Netbeans and Eclipse so you can operate in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forget the command line and Notepad++ for quick jobs / lowest common denominator backtrack and old skool retro f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38520" y="1700280"/>
            <a:ext cx="4341960" cy="3030480"/>
          </a:xfrm>
          <a:prstGeom prst="rect">
            <a:avLst/>
          </a:prstGeom>
          <a:ln w="0">
            <a:noFill/>
          </a:ln>
        </p:spPr>
      </p:pic>
      <p:pic>
        <p:nvPicPr>
          <p:cNvPr id="75" name="h.m4a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11:32:08Z</dcterms:created>
  <dc:creator>Andrew Evans</dc:creator>
  <dc:description/>
  <dc:language>en-US</dc:language>
  <cp:lastModifiedBy>Linus</cp:lastModifiedBy>
  <dcterms:modified xsi:type="dcterms:W3CDTF">2013-06-26T16:08:52Z</dcterms:modified>
  <cp:revision>205</cp:revision>
  <dc:subject/>
  <dc:title>PowerPoint Presentation</dc:title>
</cp:coreProperties>
</file>