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FC53-1237-4124-9480-78D55093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98720" y="86364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to the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reference, Java is Bigendian and two’s complement signed, which means that ints are arranged in memory 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00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00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00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0000000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her th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00000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00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00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00000000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at they use the ‘two’s complement’ method for making neg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en.wikipedia.org/wiki/Two%27s_co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08B0-B054-4D49-BB0C-272DC001B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56EE-9A88-41D7-95E0-4EA533149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1DA-AA9F-4BF0-A82D-B1E1B3F11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SCII codes are on the web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s take four bytes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o store, whereas, if we stored each digit as a character it would take two bytes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er charac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so if the number is over 2 digits it’s better to use binary sto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complete list of codes can be found at: http://www.asciitable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64D1-8498-49E2-A3BE-44431FE8C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EF39-2214-4CA4-848B-E38E2DD75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CCB1-0A8E-47AE-B7D1-A3CEF2329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970-D64E-4B7F-9722-9B9615089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day we will mainly be dealing with Files, rather than UR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864C-DCB4-4549-B6FA-44D4C769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2112-228A-43CE-B728-53FD5C84F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’s easier to use a forward slash than a backslash – backslashes are an escape character – i.e. they mean than the next character isn’t to be interpreted literally, e.g. \n is a newline. The backslash therefore needs to be written \\ if you’re going to us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we need is either a user defined or a relative file path. We dealt with this in practica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FF7-C85F-4674-95EC-E61FCAB32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ember that the user could have cancelled, so check that the directory and file aren’t “nul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10A-5EF3-4A94-8197-58383527A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check if the directory and file are “null”, because this is what they’d be if the user pushed “Cance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e split in label creation and object attachment. What is the value of ‘f’ if the if statement doesn’t run? Nu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e “null” passed in to the constructor – this is to replace an awt class we haven’t yet looked 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9CFA-36A6-4B57-AB6B-B417A19E4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try just using the filename if the file is in the directory you’re in, however, it’s a bit iffy, and the method above allows you to build relative file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’ll see an easier method using Class in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on URL objects later in the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E2A-8BFB-48AF-ADDD-ED5B90D92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e can have read, write and execute permissions. You usually only see the read/write permissions in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so, there’s a setReadOnly(): This Method makes the file or directory read-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23E0-3CD6-4277-98E1-BFE5BEC77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2F7-B4D8-4F79-97D2-3EB64700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887-B4FC-47D9-913F-9BE190D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0C1-37E4-4D0A-B069-FE3FC3AC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0D8-8DCB-4363-A598-57B8A874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000-75DC-4C2B-8943-A3C7E23B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666-B5D0-4C92-B5CF-89F14C50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A8F-594A-4E04-87C5-BF2D83ED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7DE-49D5-4978-AF95-DC9EF06C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2BC-14F8-4F4A-BD75-1B6E8591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CCC-E7A4-4AC3-8308-FF425B12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06F-EA6C-49C8-9FDE-42DCF0DF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E24-856B-493C-AFFD-FA66FEC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7EF1-6789-465B-A8BD-66D002BD662D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  <a:ea typeface="Arial"/>
              </a:rPr>
              <a:t>Input/Output: Fil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r Andy Ev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inary vs. Text f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92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files are really just binary 0 and 1 b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‘binary’ files, data is stored in binary representations of the primitive 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0000000 00000000 00000000 00000000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 int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0000000 00000000 00000000 0000000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 int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0000000 00000000 00000000 00000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 int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0000000 00000000 00000000 0000010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 int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0000000 00000000 00000000 0011000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 int 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0000000 00000000 00000000 0100000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 int 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0000000 00000000 00000000 1111111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 int 2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eft Brace 4"/>
          <p:cNvSpPr/>
          <p:nvPr/>
        </p:nvSpPr>
        <p:spPr>
          <a:xfrm rot="5400000">
            <a:off x="1151640" y="2745360"/>
            <a:ext cx="360360" cy="1295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30600 h 1295280"/>
              <a:gd name="textAreaBottom" fmla="*/ 12646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2"/>
                  <a:pt x="10800" y="1643"/>
                </a:cubicBezTo>
                <a:lnTo>
                  <a:pt x="10800" y="9157"/>
                </a:lnTo>
                <a:cubicBezTo>
                  <a:pt x="10800" y="9979"/>
                  <a:pt x="5400" y="10800"/>
                  <a:pt x="0" y="10800"/>
                </a:cubicBezTo>
                <a:cubicBezTo>
                  <a:pt x="5400" y="10800"/>
                  <a:pt x="10800" y="11622"/>
                  <a:pt x="10800" y="12443"/>
                </a:cubicBezTo>
                <a:lnTo>
                  <a:pt x="10800" y="19957"/>
                </a:lnTo>
                <a:cubicBezTo>
                  <a:pt x="10800" y="207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19560" y="292428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bits = 1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.m4a" descr=""/>
          <p:cNvPicPr/>
          <p:nvPr/>
        </p:nvPicPr>
        <p:blipFill>
          <a:blip r:embed="rId1"/>
          <a:stretch/>
        </p:blipFill>
        <p:spPr>
          <a:xfrm>
            <a:off x="37944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inary vs. Text f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0920" y="249192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text files, which can be read in notepad++ etc. characters are stored in smaller 2-byte areas by code numb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00000000 01000001 =  code 65  = char  “A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00000000 01100001 =  code 97  = char  “a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j.m4a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l chars are part of a set of 16 bit international characters called Unicod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se extend the American Standard Code for Information Interchange (ASCII) , which are represented by the ints 0 to 127, and its superset, the 8 bit ISO-Latin 1 character set (0 to 255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re are some invisible characters used for things like the end of 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back = 8;  // Try 7, as wel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hello" + back + "world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easiest way to use stuff like newline characters is to use </a:t>
            </a:r>
            <a:r>
              <a:rPr b="0" lang="en-GB" sz="2600" spc="-1" strike="noStrike">
                <a:solidFill>
                  <a:srgbClr val="1f497d"/>
                </a:solidFill>
                <a:latin typeface="Calibri"/>
              </a:rPr>
              <a:t>escape characters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(see websit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hello\nworld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k.m4a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inary vs. Text f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74456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ote that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00000000 00110001 =  code 49  = char  “1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ems much smaller – it only uses 2 bytes to store the character “1”, whereas storing the int 1 takes 4 by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ever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haracter takes this, s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00000000 00110001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=  code 49  = char  “1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00000000 00110001 00000000 00110010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=  code 49, 50  = char  “1” “2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00000000 00110001 00000000 0011001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00000000 00110111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= code 49, 50, 55  = char  “1” “2” “7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erea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00000000 00000000 00000000 01111111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= int 12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l.m4a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inary vs. Text f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2204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short, it is much more efficient to store anything with a lot of numbers as binary (not text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ever, as disk space is cheap, networks fast, and it is useful to be able to read data in notepad etc. increasingly people are using text formats like XM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s we’ll see, the filetype determines how we deal with fi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m.m4a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File f = new File("e:/myFile.txt"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ree methods of getting file loca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ardwi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ileDial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 getResour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ed to decide the kind of file we want to deal wit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n.m4a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920" y="198864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Fil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aling with files starts with encapsulating the idea of a file in an ob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.m4a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ile lo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256500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ptured in two class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  <a:ea typeface="Courier New"/>
              </a:rPr>
              <a:t>java.io.Fi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ncapsulates a file on a driv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  <a:ea typeface="Courier New"/>
              </a:rPr>
              <a:t>java.net.UR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ncapsulates a Uniform Resource Locator (URL), which could include internet address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b.m4a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java.io.F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341000"/>
            <a:ext cx="878544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efore we can read or write files we need to capture them. The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Fil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class represents an external fi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58ed5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558ed5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558ed5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558ed5"/>
                </a:solidFill>
                <a:latin typeface="Courier New"/>
              </a:rPr>
              <a:t>File(String </a:t>
            </a:r>
            <a:r>
              <a:rPr b="1" i="1" lang="en-US" sz="2600" spc="-1" strike="noStrike">
                <a:solidFill>
                  <a:srgbClr val="558ed5"/>
                </a:solidFill>
                <a:latin typeface="Courier New"/>
              </a:rPr>
              <a:t>pathname</a:t>
            </a:r>
            <a:r>
              <a:rPr b="1" lang="en-US" sz="2600" spc="-1" strike="noStrike">
                <a:solidFill>
                  <a:srgbClr val="558ed5"/>
                </a:solidFill>
                <a:latin typeface="Courier New"/>
              </a:rPr>
              <a:t>)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File f = new File("e:/myFile.txt"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ever, we must remember that different OSs have different file system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te the use of a forward slas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Java copes with most of this, but “e:” wouldn’t work in *NIX / Mac / mobiles etc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.m4a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tting file lo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204920"/>
            <a:ext cx="8064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8ed5"/>
                </a:solidFill>
                <a:latin typeface="Courier New"/>
                <a:ea typeface="Courier New"/>
              </a:rPr>
              <a:t>java.awt.FileDia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ens a “Open file” box with a directory tree in it. This stays open until the user chooses a file or canc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ce chosen use FileDialog’s </a:t>
            </a: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getDirectory(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getFile()</a:t>
            </a: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s to get the directory and filen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3913200" cy="2905200"/>
          </a:xfrm>
          <a:prstGeom prst="rect">
            <a:avLst/>
          </a:prstGeom>
          <a:ln w="0">
            <a:noFill/>
          </a:ln>
        </p:spPr>
      </p:pic>
      <p:pic>
        <p:nvPicPr>
          <p:cNvPr id="60" name="d.m4a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tting file lo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Dialog fd = new FileDialog(new Frame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d.setVisible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 = nul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(fd.getDirectory() != null)||( fd.getFile() != null))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 = new File(fd.getDirectory() + fd.getFile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4"/>
          <p:cNvSpPr/>
          <p:nvPr/>
        </p:nvSpPr>
        <p:spPr>
          <a:xfrm flipV="1">
            <a:off x="0" y="2276640"/>
            <a:ext cx="9144000" cy="7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e.m4a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application direc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1197000"/>
            <a:ext cx="881244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ach object has a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lang.Clas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object associated with it. This represents the class loaded into the JV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ne use is to get resources local to the class, i.e. in the same directory as the .class file. We use a</a:t>
            </a:r>
            <a:r>
              <a:rPr b="1" lang="en-GB" sz="26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net.URL</a:t>
            </a:r>
            <a:r>
              <a:rPr b="1" lang="en-GB" sz="26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bject to do th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Class thisClass = getClass(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URL url = thisClass.getResource("myFile.txt"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 can then use URL’s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getPath(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to return the file path as a String for the File construct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f.m4a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seful File 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exists(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558ed5"/>
                </a:solidFill>
                <a:latin typeface="Courier New"/>
              </a:rPr>
              <a:t>canRead()</a:t>
            </a: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canWrit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est whether the file exists and can be read or written to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createNewFile()</a:t>
            </a: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createTempFil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reate a new file, and create a new file in “temp” or “tmp”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delete()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24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deleteOnExit() </a:t>
            </a: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Delete the file (if permissions are correct). Delete when JVM shutsdow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isDirectory(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listFiles()</a:t>
            </a: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hecks whether the File is a directory, and returns an array of Files representing the files in the directory. Can use a </a:t>
            </a:r>
            <a:r>
              <a:rPr b="1" lang="en-GB" sz="2100" spc="-1" strike="noStrike">
                <a:solidFill>
                  <a:srgbClr val="558ed5"/>
                </a:solidFill>
                <a:latin typeface="Courier New"/>
              </a:rPr>
              <a:t>FilenameFilter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object to limit the returned Fil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.m4a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920" y="198864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File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s we’ll see, the type of the file has a big effect on how we handle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h.m4a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13:28:18Z</dcterms:created>
  <dc:creator>Andrew Evans</dc:creator>
  <dc:description/>
  <dc:language>en-US</dc:language>
  <cp:lastModifiedBy>Linus</cp:lastModifiedBy>
  <dcterms:modified xsi:type="dcterms:W3CDTF">2013-07-12T20:25:09Z</dcterms:modified>
  <cp:revision>209</cp:revision>
  <dc:subject/>
  <dc:title>PowerPoint Presentation</dc:title>
</cp:coreProperties>
</file>