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7A9A-821E-4A49-BD24-BAE22EA796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98720" y="86364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to the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2C33-519B-4C46-8159-96E0F23EE8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D14A-738A-42E5-9B9B-7891969C2C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6B24-70EA-48C8-9B82-23948040CF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4C5D-4556-4B44-8802-443A879BB8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B070-0350-4DC3-8292-71D562364F9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should aim, at this stage, for ~ 1/3 code, ~1/3 space between code, and ~1/3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71C0-39CA-4109-AA97-911AAAE1EFE2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985-F4E8-40C9-8095-4F35B528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627-2B8F-4173-A34C-588DE0CF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6DB-9BCF-44CA-9F1B-00C4264F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303-43DB-436F-BD06-D82C64FE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06B-14DD-4DB1-8055-96EDAF3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2A1-7B87-4B0A-9970-ED5A4B57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EC7-DA2F-4EEF-B447-7264F0E5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3E7-85B2-4796-A8E4-B02421DB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7C9-5CCB-4827-81C7-48E75583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4FE-7CB2-4916-8633-E28BAEFE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8F2-D6BD-4153-822F-44F7367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4C6-D6AC-4684-9492-F0B74CF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2A22-C3F6-4710-B0EE-8226658C712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alibri"/>
                <a:ea typeface="Arial"/>
              </a:rPr>
              <a:t>Doc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Dr Andy Ev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se storage objects can b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parameteriz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i.e. they can be given a specific type other than Ob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Vector&lt;String&gt; v = new Vector</a:t>
            </a:r>
            <a:r>
              <a:rPr b="1" lang="en-GB" sz="2100" spc="-1" strike="noStrike">
                <a:solidFill>
                  <a:srgbClr val="558ed5"/>
                </a:solidFill>
                <a:latin typeface="Courier New"/>
              </a:rPr>
              <a:t>&lt;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GB" sz="2100" spc="-1" strike="noStrike">
                <a:solidFill>
                  <a:srgbClr val="558ed5"/>
                </a:solidFill>
                <a:latin typeface="Courier New"/>
              </a:rPr>
              <a:t>&gt;(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can also declare these in Method parameter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void myMethod(Vector</a:t>
            </a:r>
            <a:r>
              <a:rPr b="1" lang="en-GB" sz="2100" spc="-1" strike="noStrike">
                <a:solidFill>
                  <a:srgbClr val="558ed5"/>
                </a:solidFill>
                <a:latin typeface="Courier New"/>
              </a:rPr>
              <a:t>&lt;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GB" sz="2100" spc="-1" strike="noStrike">
                <a:solidFill>
                  <a:srgbClr val="558ed5"/>
                </a:solidFill>
                <a:latin typeface="Courier New"/>
              </a:rPr>
              <a:t>&gt;</a:t>
            </a:r>
            <a:r>
              <a:rPr b="0" lang="en-GB" sz="2100" spc="-1" strike="noStrike">
                <a:solidFill>
                  <a:srgbClr val="000000"/>
                </a:solidFill>
                <a:latin typeface="Courier New"/>
              </a:rPr>
              <a:t> v) {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You can build your own parameterizable types that take in Classes of a particular typ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lass ClassName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</a:rPr>
              <a:t>&lt;T extends OptionalClass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   private Vector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</a:rPr>
              <a:t>&lt;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items = new Vector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</a:rPr>
              <a:t>&lt;T&gt;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   void add(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item) {   items.add(item);   }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   </a:t>
            </a:r>
            <a:r>
              <a:rPr b="1" lang="en-GB" sz="2000" spc="-1" strike="noStrike">
                <a:solidFill>
                  <a:srgbClr val="558ed5"/>
                </a:solidFill>
                <a:latin typeface="Courier New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get(int index){   return items.get(index);  }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.m4a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ind your class or package, and click on the lin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564160" cy="28778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3124080" y="3645000"/>
            <a:ext cx="5815080" cy="295272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80" name="Oval 3"/>
          <p:cNvSpPr/>
          <p:nvPr/>
        </p:nvSpPr>
        <p:spPr>
          <a:xfrm>
            <a:off x="179280" y="1268280"/>
            <a:ext cx="1584360" cy="331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"/>
          <p:cNvSpPr/>
          <p:nvPr/>
        </p:nvSpPr>
        <p:spPr>
          <a:xfrm>
            <a:off x="1760400" y="2614680"/>
            <a:ext cx="3475080" cy="2765520"/>
          </a:xfrm>
          <a:custGeom>
            <a:avLst/>
            <a:gdLst/>
            <a:ahLst/>
            <a:rect l="l" t="t" r="r" b="b"/>
            <a:pathLst>
              <a:path w="3474720" h="2766289">
                <a:moveTo>
                  <a:pt x="0" y="300459"/>
                </a:moveTo>
                <a:cubicBezTo>
                  <a:pt x="953452" y="59476"/>
                  <a:pt x="1906905" y="-181506"/>
                  <a:pt x="2045970" y="197589"/>
                </a:cubicBezTo>
                <a:cubicBezTo>
                  <a:pt x="2185035" y="576684"/>
                  <a:pt x="596265" y="2199744"/>
                  <a:pt x="834390" y="2575029"/>
                </a:cubicBezTo>
                <a:cubicBezTo>
                  <a:pt x="1072515" y="2950314"/>
                  <a:pt x="2273617" y="2699806"/>
                  <a:pt x="3474720" y="244929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j.m4a" descr=""/>
          <p:cNvPicPr/>
          <p:nvPr/>
        </p:nvPicPr>
        <p:blipFill>
          <a:blip r:embed="rId3"/>
          <a:stretch/>
        </p:blipFill>
        <p:spPr>
          <a:xfrm>
            <a:off x="8028000" y="1108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Java Pack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0920" y="2276280"/>
            <a:ext cx="8664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’ve now seen most of the core langu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me of this is actually in the package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lan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, for example, the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Syste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Mat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Classes. These you don’t have to import -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lan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is always there for yo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st of Java is in packages that do specific stuff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e’ll spend the rest of the course looking at packages you can u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a.m4a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Write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Write(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ileWriter f = nul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 = new FileWriter (someFil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 catch (IOException ioe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oe.printStackTrac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f.write(“Hello World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f.clos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59595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 (String args[]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new Writ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b.m4a" descr=""/>
          <p:cNvPicPr/>
          <p:nvPr/>
        </p:nvPicPr>
        <p:blipFill>
          <a:blip r:embed="rId1"/>
          <a:stretch/>
        </p:blipFill>
        <p:spPr>
          <a:xfrm>
            <a:off x="8101080" y="1125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me of the main pack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520" y="2491920"/>
            <a:ext cx="8534520" cy="39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io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(file reading/writ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awt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x.swin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 (windows applic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applet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(web applic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net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(network communic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uti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GB" sz="2600" spc="-1" strike="noStrike">
                <a:solidFill>
                  <a:srgbClr val="558ed5"/>
                </a:solidFill>
                <a:latin typeface="Courier New"/>
              </a:rPr>
              <a:t>java.lan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(bits and pie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ut, how do we know how to use these packages and classe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.m4a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844280"/>
            <a:ext cx="8588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e’ve seen that we should comment our code for developers, using // com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that relies on seeing our co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tter to supply API (Application Programming Interface) documentation that says what each class and method do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e of the great things about Java is that comments can (and should) be written so that they can be automatically turned into documents about the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do this with the ‘javadoc’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d.m4a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Do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2205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ch class in the core language has a webpage that lists its variables and methods, along with examples of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e.m4a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two comment ty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052280"/>
            <a:ext cx="8664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ents you don’t want to put in the documentation start // After this you can’t write code on the same line, just comments E.g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End of Cla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This bit of code calculates ho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on a rating of one to t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ents you want in the documentation should be associated with a block or object and be laid out thu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* This is a class for working o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* how long we’ve been sat 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f.m4a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docum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915920"/>
            <a:ext cx="8642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documentation comes out as webp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means that if you can write HTML you can format your docu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‘docs’ (as we pros like to call them)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the methods, what you pass to them and get out of them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any important variables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5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other info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y're available for all the core classes and interfa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docs.oracle.com/javase/8/docs/ap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g.m4a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ener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892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ly thing you won’t recognise in the docs is the use of angle brackets, th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Vector&lt;E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E 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ainsAll(Collection&lt;?&gt; 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All(Collection&lt;? extends E&gt; 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These mean the class stores java.lang.Object type objects, but can be forced to be more specific to reduce potential casting err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h.m4a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5:06:36Z</dcterms:created>
  <dc:creator>cyan</dc:creator>
  <dc:description/>
  <dc:language>en-US</dc:language>
  <cp:lastModifiedBy>Andrew Evans</cp:lastModifiedBy>
  <dcterms:modified xsi:type="dcterms:W3CDTF">2014-11-03T19:04:10Z</dcterms:modified>
  <cp:revision>138</cp:revision>
  <dc:subject/>
  <dc:title>Lecture 5.  The Core Java Language  – Packages and Exceptions</dc:title>
</cp:coreProperties>
</file>