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42A4-E837-4262-916D-38A403221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098720" y="86364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come to the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at streams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retur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–1 at the end of reading, they don’t actually read –1 into themse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3757-F94C-4C78-8A1C-3E7566098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E9A2-0009-40C6-9B5E-2746E7BEC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at the single byte of binary data is stored temporarily in the int variable, which has space for four bytes. All four are only filled when the -1 is returned at the end of the file. The system can then recognise this as the number “-1”. Up until that point, even if it reads the number “-1” from the file, it will get pulled into four pieces before hitting the int variable, so it will never trigger the stop cond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n’t the place to go into the “Two's Complement” mechanism of storing negative numbers, but if you are interested you can find details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onjava.com/pub/a/onjava/2005/02/02/bitset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en.wikipedia.org/wiki/Signed_number_re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may think these are a bit obscure, but they have one very good us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E622-CE5E-4464-9D10-DAAA0AAE7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4830-35BA-44D0-8949-0BAAEB6CD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536D-6C69-45D6-BA66-A57060503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79B-8D41-4E52-A917-ABE5E76A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099-DCC5-4250-930B-D5DE5EB3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0FC-38E9-4093-8409-31E23386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FA3-78C1-4412-9C48-42FF137E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A95-6837-4F9F-84FA-EB959DE4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C4E-076A-4CB8-B890-9D2CEDBA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E1E-50C4-4BF1-9A3A-D4EBE5F1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D7B-F177-4AAD-BCAD-71A1E216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6BF-D4E8-41C5-9476-C31488B6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C7E-45E0-402A-BB67-274EB442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55E-F3FA-4F22-A393-C1965DCB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70A-BF5D-4F76-84D1-BDF02BEC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8FAA-C254-4B30-8CDD-978BFD392038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40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  <a:ea typeface="Arial"/>
              </a:rPr>
              <a:t>Input/Output: Binary Dat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r Andy Ev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yte strea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558ed5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ad methods return -1 at the end of the resour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558ed5"/>
                </a:solidFill>
                <a:latin typeface="Courier New"/>
              </a:rPr>
              <a:t>FileInputStream(File </a:t>
            </a:r>
            <a:r>
              <a:rPr b="1" i="1" lang="en-GB" sz="2200" spc="-1" strike="noStrike">
                <a:solidFill>
                  <a:srgbClr val="558ed5"/>
                </a:solidFill>
                <a:latin typeface="Courier New"/>
              </a:rPr>
              <a:t>fileObject</a:t>
            </a:r>
            <a:r>
              <a:rPr b="1" lang="en-GB" sz="2200" spc="-1" strike="noStrike">
                <a:solidFill>
                  <a:srgbClr val="558ed5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lows us to read bytes from a fi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558ed5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sed to write to resourc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558ed5"/>
                </a:solidFill>
                <a:latin typeface="Courier New"/>
              </a:rPr>
              <a:t>FileOutputStream(File fileObjec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sed to write to a file if the user has permiss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verwrites old material in fi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558ed5"/>
                </a:solidFill>
                <a:latin typeface="Courier New"/>
              </a:rPr>
              <a:t>FileOutputStream(File fileObject, boolean </a:t>
            </a:r>
            <a:r>
              <a:rPr b="1" i="1" lang="en-GB" sz="2200" spc="-1" strike="noStrike">
                <a:solidFill>
                  <a:srgbClr val="558ed5"/>
                </a:solidFill>
                <a:latin typeface="Courier New"/>
              </a:rPr>
              <a:t>append</a:t>
            </a:r>
            <a:r>
              <a:rPr b="1" lang="en-GB" sz="2200" spc="-1" strike="noStrike">
                <a:solidFill>
                  <a:srgbClr val="558ed5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ly overwrites if append is </a:t>
            </a:r>
            <a:r>
              <a:rPr b="1" lang="en-GB" sz="2200" spc="-1" strike="noStrike">
                <a:solidFill>
                  <a:srgbClr val="558ed5"/>
                </a:solidFill>
                <a:latin typeface="Courier New"/>
              </a:rPr>
              <a:t>false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a.m4a" descr=""/>
          <p:cNvPicPr/>
          <p:nvPr/>
        </p:nvPicPr>
        <p:blipFill>
          <a:blip r:embed="rId1"/>
          <a:stretch/>
        </p:blipFill>
        <p:spPr>
          <a:xfrm>
            <a:off x="7812000" y="10526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ileInputStream ourStream = nul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ile f = new File(“e:/myFile.bin”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Stream = new FileInputStream(f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 catch (FileNotFoundException fnfe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 Do somet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he Stream is then usually used in the following fash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 (c = ourStream.read())  &gt;= 0 ) 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dd c to a byte array (more on this shortl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Stream.clos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b.m4a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yte streams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2421000"/>
            <a:ext cx="8583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re are cases where we want to write to and from arrays using stream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se are usually used as a convenient way of reading and writing a byte array from other streams and over the network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f497d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1f497d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ByteArrayInputStream</a:t>
            </a:r>
            <a:r>
              <a:rPr b="0" lang="en-GB" sz="26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ByteArrayOutputStr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.m4a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837720"/>
            <a:ext cx="878544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leInputStream fin = new FileInputStream(fil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ByteArrayOutputStream b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aos </a:t>
            </a:r>
            <a:r>
              <a:rPr b="1" lang="en-US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=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new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ByteArrayOutputStream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c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(c = fin.read()) &gt;= 0) 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baos.write(c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byte[] b = </a:t>
            </a:r>
            <a:r>
              <a:rPr b="1" lang="en-US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baos.toByteArray(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aves us having to find out size of byte array as ByteArrayOutputStream has a 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  <a:ea typeface="Times New Roman"/>
              </a:rPr>
              <a:t>toByteArray()</a:t>
            </a:r>
            <a:r>
              <a:rPr b="0" lang="en-GB" sz="2400" spc="-1" strike="noStrike">
                <a:solidFill>
                  <a:srgbClr val="558ed5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eth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d.m4a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uffering strea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2565000"/>
            <a:ext cx="87138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s with the FileReader/FileWrit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f497d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BufferedInputStr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BufferedOutputStream</a:t>
            </a:r>
            <a:r>
              <a:rPr b="0" lang="en-GB" sz="26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You wrap the classes using the buffer’s constructo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.m4a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78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ther byte strea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ndomAccessFi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6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d for reading and writing to files when you need to write into the middle of files as opposed to the 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intStr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6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as used in Java 1.0 to write characters, but didn’t do a very good job of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6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w deprecated as an object, with the exception of </a:t>
            </a: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, which is a static final object of this typ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6480">
              <a:lnSpc>
                <a:spcPct val="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bject Stre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f.m4a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er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9280" y="2133360"/>
            <a:ext cx="86868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iven that we can read and write bytes to streams, there’s nothing to stop us writing objects themselves from the memory to a strea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is lets us transmit objects across the network and  save the state of objects in fi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is is known as object </a:t>
            </a:r>
            <a:r>
              <a:rPr b="1" i="1" lang="en-GB" sz="2600" spc="-1" strike="noStrike">
                <a:solidFill>
                  <a:srgbClr val="558ed5"/>
                </a:solidFill>
                <a:latin typeface="Calibri"/>
              </a:rPr>
              <a:t>serialization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 More details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www.tutorialspoint.com/java/java_serialization.ht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g.m4a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84280"/>
            <a:ext cx="8667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e can represent and explore the files on a machine with the File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ave us having to understand how external info is produced, java uses stre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e can read and write bytes to files or arr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e can store or send objects using stre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e can read and write characters to files or arr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e should always try and use buffers around our streams to ensure ac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h.m4a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6T13:28:18Z</dcterms:created>
  <dc:creator>Andrew Evans</dc:creator>
  <dc:description/>
  <dc:language>en-US</dc:language>
  <cp:lastModifiedBy>Linus</cp:lastModifiedBy>
  <dcterms:modified xsi:type="dcterms:W3CDTF">2013-07-13T21:44:04Z</dcterms:modified>
  <cp:revision>196</cp:revision>
  <dc:subject/>
  <dc:title>PowerPoint Presentation</dc:title>
</cp:coreProperties>
</file>