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0089-7A50-488F-8E11-CA9429BE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1F1-1BCC-4CF2-AB6E-9C0B5286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try to fill a space that doesn’t exist you get a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xpand an array we have to transfer the contents into another temporary array, and assign a new, larger, array to the array label, before copying the data back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641-3537-4EAA-B8E4-CC9D1173F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E4AD-7BC6-4AA7-94BD-C3D518C2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try to fill a space that doesn’t exist you get a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xpand an array we have to transfer the contents into another temporary array, and assign a new, larger, array to the array label, before copying the data back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E7E0-32FC-4476-BDF0-D3298D05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try to fill a space that doesn’t exist you get a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xpand an array we have to transfer the contents into another temporary array, and assign a new, larger, array to the array label, before copying the data back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AD9-CBB9-40C3-8529-EE3C1671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D54-8A0A-43F3-9C53-D28D713BA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A1B8-D0C1-492E-875C-39F8D538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BFA-DD47-45C6-BAA4-EA281259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EA3C-FD47-4081-835E-C3A8CF0F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693-92F4-4C05-A7B4-731588F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3E4-B99C-43B8-AF29-4A739B73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6FC-EADD-4662-A147-AB268475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F3E-7EE4-4F85-AF0C-8D31FE22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131-DF33-44DA-96C8-ADB9768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278-C534-4347-9454-877A975B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A6B-9134-46EF-86FB-381C29B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A02-3684-4AE2-A612-E37193A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8A0-E944-405F-989F-CFC585B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D15-90F1-42F2-A433-F712319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A28-871C-4671-AC53-D393D8F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C4B-A810-46C3-BFE8-0C01D07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20B1-44DC-49C0-8BBA-890284A977A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Array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size of an array is fixed once made, and can be found using the syntax: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name.leng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System.out.println(xCoords.length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.m4a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bjects revis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te also that arrays are a special kind of object,  as you can see by the way we make  the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Coords[] =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  <a:ea typeface="Courier New"/>
              </a:rPr>
              <a:t>new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10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the fact that they have special variables set up inside the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xCoords</a:t>
            </a:r>
            <a:r>
              <a:rPr b="0" lang="en-GB" sz="2600" spc="-1" strike="noStrike">
                <a:solidFill>
                  <a:srgbClr val="558ed5"/>
                </a:solidFill>
                <a:latin typeface="Courier New"/>
                <a:ea typeface="Courier New"/>
              </a:rPr>
              <a:t>.leng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j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dimensional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361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don’t just have to have one dimensional arrays, you can have as many dimensions as you li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map of population density for example may be a 2D arra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popMap[][] = new int[100][10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think of the array as a table, with the first size as the row numbers and the second as the colum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refer to the position as, for example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Name[10][1]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value at the 1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ow,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lum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k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13276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ly you can think of them as arrays of arrays, and there is nothing to stop you setting them up like th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array2D[][] = new int [4][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2D[0]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= new int[3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2D[1]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= new int[3]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2D[2]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= new int[3]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2D[3]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= new int[3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ch position in the first dimension being filled with a new arr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e that you must always give the size of the first dimension.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dimensional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l.m4a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fact, the dimensions don’t have to  be regula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array2Dirreg[][] = new int [4][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array2Dirreg[0]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= new int[1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array2Dirreg[1]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= new int[3];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array2Dirreg[2]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= new int[2];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array2Dirreg[3]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= new int[3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can have as many dimensions as we lik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array4D[][][][] = new int[100][][][]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regular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m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dwi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can still fill them with existing objects instead of defining them empty…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uble array2D[][]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{100.0,0.0},{1.0,1.0},{2.0,3.0},{5.0,8.0},{13.0,200.0}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uble array2Dirreg[][]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{100.0},{1.0,1.0,1.2},{2.0,3.0},{5.0,8.0,13.0}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helps, you can break this onto several lines before the semicol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n.m4a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find the length in the first dimension, we us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ame.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find the length in the second dimension, we us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ame[positionInFirstDimension].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, for the array on the previous slid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ray2Dirreg.length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is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ray2Dirreg[0].length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 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ray2Dirreg[4].lengt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is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8920" y="1052640"/>
            <a:ext cx="3816360" cy="547200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king a variable is a two-stage proce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ke the nam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Val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sign it to a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Value = 23.4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 all in one g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Value = 23.4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140360" y="1052640"/>
            <a:ext cx="4824360" cy="547200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king an array is a three-stage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ke the 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[] myVal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sign it to sp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Values = new double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 all in one g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[] myValue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ouble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n assign val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Values[0] = 23.4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.m4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ember that we make a variable, th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 = 1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1 = new Po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what if we want to read in a big dataf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420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we need a new name for each data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ally we’d just have a list or table of data, and get at the data with the list/table name and the location within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structure is called an </a:t>
            </a:r>
            <a:r>
              <a:rPr b="1" i="1" lang="en-GB" sz="2400" spc="-1" strike="noStrike">
                <a:solidFill>
                  <a:srgbClr val="558ed5"/>
                </a:solidFill>
                <a:latin typeface="Calibri"/>
              </a:rPr>
              <a:t>arra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rays are variables with multiple examples of the same kind of object in th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a ‘xCoord’ array variable containing  10 different x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 for all variables, we first make a label. The syntax i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type arrayName[];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type[] arrayNam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double xCoords[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double []xCoord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Point pathway[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868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n we attach it to a suitable set of spaces in memo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Courier New"/>
              </a:rPr>
              <a:t>arrayName = new type[size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xCoords = new double[10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pathway = new Point[10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s has now made 10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spac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in our arrays, numbered 0 to 9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rrays can be declared and assigned at the same tim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double xCoords[] = new double [10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ig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686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fill them by using the name and index loc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xCoords[0] = 100.0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pathway[9] = somePoin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likewise to get out the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myX = xCoords[0]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ives myX as 100.0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You use them with objects like any normal nam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myX = pathway[9].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you try to use a space that doesn’t exist, you’ll break the progr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imitive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773000"/>
            <a:ext cx="8712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rays are just label coll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ava fills primitive arrays with default val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p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you should do this anyhow, so you are sure what is in t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f.m4a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bject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125000"/>
            <a:ext cx="871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objects, the unassigned labels just point 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, the first thing you need to do is attach each label to an obje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[] pathway = new Point[1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way[0] = new Po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athway[0].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athway[1].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econd println would break the program, because it is trying to rea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ut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 the second Point object hasn’t been c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.m4a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dwi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can actually fill them with existing data at declar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uble xCoords[]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100.0,0.0,1.0,1.0,2.0,3.0,5.0,8.0,13.0,200.0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oint pathway[] = {p1, new Point(), p2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you are going to do this, the declaration and data filling has to be part of the same comm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h.m4a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12:01:01Z</dcterms:created>
  <dc:creator>Andrew Evans</dc:creator>
  <dc:description/>
  <dc:language>en-US</dc:language>
  <cp:lastModifiedBy>Linus</cp:lastModifiedBy>
  <dcterms:modified xsi:type="dcterms:W3CDTF">2013-06-21T17:26:36Z</dcterms:modified>
  <cp:revision>176</cp:revision>
  <dc:subject/>
  <dc:title>Lecture 2.  The core Java language</dc:title>
</cp:coreProperties>
</file>