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DC1-2695-4F5C-8052-8552CF40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A06-5597-47A4-A9A4-46F37FF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6F6-5BE8-4D70-B1D7-F9C3E31E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624-B125-49FC-8AB5-3E1B4C2C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CB6-4939-4061-938B-BAD28E3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1F8-A5D5-497C-B2B6-45154BD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61F-129E-4011-A496-79DBF8C8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9CC-31E1-43D4-8179-1402C195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407-CD21-4655-8E6F-26A3F47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43B-99D7-457C-9A37-CFB2D5F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58A-1884-4AFA-A6DD-0324D0E9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9FF-0825-4828-9A41-B94A2D7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734-D182-41DD-B04B-BCAC681E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Rivers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rosion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eposi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313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in (or Precipitation) falls during a st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38163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ain that falls into a rivers catchment is flows either over or under land into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259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the river flows down stream the water erodes the river bed and picks up sediment (mud and dirt and small ro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rger and faster the river the more sediment it can pick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his sediment is transported downstream by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s long as the river is flowing fast enough then it will keep hold of the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ce the river has got away from its source. It approaches flatter land and therefore cannot flow as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a result of this sediment is depos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1844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diment is deposited on the inside of the bend because the river is flowing the slowest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284640"/>
            <a:ext cx="288720" cy="108108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10920" y="3645000"/>
            <a:ext cx="289080" cy="107928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541440" y="-360"/>
            <a:ext cx="92282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844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52560" y="114948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30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00:41Z</dcterms:created>
  <dc:creator>Information Systems Services</dc:creator>
  <dc:description/>
  <dc:language>en-US</dc:language>
  <cp:lastModifiedBy>Information Systems Services</cp:lastModifiedBy>
  <dcterms:modified xsi:type="dcterms:W3CDTF">2002-11-06T15:18:55Z</dcterms:modified>
  <cp:revision>3</cp:revision>
  <dc:subject/>
  <dc:title>Rivers </dc:title>
</cp:coreProperties>
</file>