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12.wmf" ContentType="image/x-wmf"/>
  <Override PartName="/ppt/media/image29.jpeg" ContentType="image/jpeg"/>
  <Override PartName="/ppt/media/image10.jpeg" ContentType="image/jpeg"/>
  <Override PartName="/ppt/media/image9.wmf" ContentType="image/x-wmf"/>
  <Override PartName="/ppt/media/image13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27.jpeg" ContentType="image/jpeg"/>
  <Override PartName="/ppt/media/image34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6.wmf" ContentType="image/x-wmf"/>
  <Override PartName="/ppt/media/image19.jpeg" ContentType="image/jpeg"/>
  <Override PartName="/ppt/media/image4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7E1-174E-4D9F-B96E-EBBC9525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736-2068-4974-8BDA-DFE69739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A90-06E1-41F2-B779-3C2592B7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EDE-BF34-4C27-A779-599D58CA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8A1-FA64-4B45-864E-B7FC037B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096-90A1-4554-8527-54F0DB5D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097-60B0-433E-BBF2-C74B98B8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2F0-036B-4AC1-9A58-FE35A4B4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C7E-DFF8-4ACC-9C9A-D44F45C3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A474-CA1F-43FB-9F86-E10DF3B6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C90-246F-4B10-89E8-C3DD6E7D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5A7-1341-4E0F-AAEA-B534C41F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33EF-EEB7-4DAE-92CC-BCFF0EEE32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jpe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hyperlink" Target="http://images.google.com/imgres?imgurl=http://equinox.unr.edu/homepage/fenimore/London/Buckingham%2520Guard.jpg&amp;imgrefurl=http://equinox.unr.edu/homepage/fenimore/London/gallery.htm&amp;h=1536&amp;w=2048&amp;sz=604&amp;tbnid=NatC7MwRqYMJ:&amp;tbnh=112&amp;tbnw=149&amp;start=12&amp;prev=/images%3Fq%3DBuckingham%2BPalace%26hl%3Den%26lr%3D" TargetMode="External"/><Relationship Id="rId5" Type="http://schemas.openxmlformats.org/officeDocument/2006/relationships/image" Target="../media/image23.jpeg"/><Relationship Id="rId6" Type="http://schemas.openxmlformats.org/officeDocument/2006/relationships/hyperlink" Target="http://www.eye2eyesoft.co.uk/PAGE3.htm" TargetMode="External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501336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35344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124000" y="189000"/>
            <a:ext cx="1943280" cy="288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140360" y="189000"/>
            <a:ext cx="1871640" cy="2879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905120" cy="2876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084720" y="189000"/>
            <a:ext cx="2856240" cy="2952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0920" y="3357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Bl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3357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84720" y="342900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33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efe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00720" y="3429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eens Guards – bear skin h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47628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47640" y="1125360"/>
            <a:ext cx="352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1773360"/>
            <a:ext cx="54007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95880" y="46080"/>
            <a:ext cx="4848120" cy="6811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189000"/>
            <a:ext cx="3168720" cy="85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don is the capital of the United King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don is 200 miles from Leeds, and takes around 3 and a half hours to get there. Along a  motorway called the 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anyone been to London? What was it like? Why were you in Lond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1828800" cy="855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0920" y="2997360"/>
            <a:ext cx="182556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451640" y="2637000"/>
            <a:ext cx="1341360" cy="1090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700360" y="2205000"/>
            <a:ext cx="1716120" cy="1084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826920" y="1125360"/>
            <a:ext cx="1633680" cy="1411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236000" y="3860640"/>
            <a:ext cx="1726920" cy="1325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6877080" y="1125360"/>
            <a:ext cx="2050920" cy="136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5003640" y="549360"/>
            <a:ext cx="1592280" cy="133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333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an you get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5373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0047800">
            <a:off x="2484000" y="2420640"/>
            <a:ext cx="505080" cy="2881080"/>
          </a:xfrm>
          <a:prstGeom prst="downArrow">
            <a:avLst>
              <a:gd name="adj1" fmla="val 50000"/>
              <a:gd name="adj2" fmla="val 14260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8951600">
            <a:off x="1959120" y="4025880"/>
            <a:ext cx="504720" cy="2016000"/>
          </a:xfrm>
          <a:prstGeom prst="downArrow">
            <a:avLst>
              <a:gd name="adj1" fmla="val 50000"/>
              <a:gd name="adj2" fmla="val 998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1844640"/>
            <a:ext cx="360360" cy="3672000"/>
          </a:xfrm>
          <a:prstGeom prst="downArrow">
            <a:avLst>
              <a:gd name="adj1" fmla="val 50000"/>
              <a:gd name="adj2" fmla="val 254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3284640"/>
            <a:ext cx="360360" cy="2160360"/>
          </a:xfrm>
          <a:prstGeom prst="downArrow">
            <a:avLst>
              <a:gd name="adj1" fmla="val 50000"/>
              <a:gd name="adj2" fmla="val 149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736800">
            <a:off x="5219280" y="2060280"/>
            <a:ext cx="287280" cy="3311640"/>
          </a:xfrm>
          <a:prstGeom prst="downArrow">
            <a:avLst>
              <a:gd name="adj1" fmla="val 50000"/>
              <a:gd name="adj2" fmla="val 2881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5076720" y="2492280"/>
            <a:ext cx="1830600" cy="960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1813200">
            <a:off x="5549400" y="3414600"/>
            <a:ext cx="486000" cy="2233800"/>
          </a:xfrm>
          <a:prstGeom prst="downArrow">
            <a:avLst>
              <a:gd name="adj1" fmla="val 50000"/>
              <a:gd name="adj2" fmla="val 114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073600">
            <a:off x="6306840" y="2247480"/>
            <a:ext cx="485640" cy="3745080"/>
          </a:xfrm>
          <a:prstGeom prst="downArrow">
            <a:avLst>
              <a:gd name="adj1" fmla="val 50000"/>
              <a:gd name="adj2" fmla="val 1927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644800">
            <a:off x="6696000" y="3366720"/>
            <a:ext cx="486000" cy="1876320"/>
          </a:xfrm>
          <a:prstGeom prst="downArrow">
            <a:avLst>
              <a:gd name="adj1" fmla="val 50000"/>
              <a:gd name="adj2" fmla="val 965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0291400">
            <a:off x="5605560" y="5294160"/>
            <a:ext cx="1800000" cy="360360"/>
          </a:xfrm>
          <a:prstGeom prst="leftArrow">
            <a:avLst>
              <a:gd name="adj1" fmla="val 50000"/>
              <a:gd name="adj2" fmla="val 124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620640"/>
            <a:ext cx="381636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London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don is very big – it is the biggest city in Euro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ation of around 7million people(10X more than the number of people in Lee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ous London Underground and London red b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don is on the River Thames and has 14 bridges over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2637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940360" y="2637000"/>
            <a:ext cx="2700360" cy="4000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476360" y="414972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1620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435640" y="189000"/>
            <a:ext cx="3432240" cy="2411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58920" y="4221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378936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924360" y="189000"/>
            <a:ext cx="135576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97800" cy="4660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74680" y="5248440"/>
            <a:ext cx="67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ke Leeds it is made up of boroughs – Chapel Allerton, Harehill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ndon has 32 boroug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229440" y="2602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0920" y="4941720"/>
            <a:ext cx="3313080" cy="1714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58920" y="765000"/>
            <a:ext cx="547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museums and cin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restaurants and ca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schools, parks and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busy city, lots of people cars and b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throw is the main airport in Lon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211640" y="3141720"/>
            <a:ext cx="4248000" cy="3133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95280" y="2781360"/>
            <a:ext cx="324000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0000" y="692280"/>
            <a:ext cx="4319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ous places in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dding lane – start of the Great Fire of London in 1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ses of Parliament and Big 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ckingham Palace – where the Queen lives and her gu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 minister – Tony Blair No. 10 Downing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371628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292720" y="189000"/>
            <a:ext cx="3456000" cy="2087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47640" y="414972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393372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356000" y="4365720"/>
            <a:ext cx="4483080" cy="2241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3860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92720" y="2421000"/>
            <a:ext cx="345600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10 Downing Stree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3500280"/>
            <a:ext cx="381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don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wer of London and Tower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mbley sta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ford Street – largest shopping street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falgar square and Mon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 Paul’s Cathed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126828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284720" y="404640"/>
            <a:ext cx="4572000" cy="2997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580000" y="378936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572000" y="3716280"/>
            <a:ext cx="42861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189000"/>
            <a:ext cx="3960720" cy="2801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42920" y="141300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3860640"/>
            <a:ext cx="18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0384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84360" y="4005360"/>
            <a:ext cx="237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84360" y="260280"/>
            <a:ext cx="2744640" cy="2951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92360" y="3860640"/>
            <a:ext cx="13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67280" y="4076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465300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3816360" cy="2609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4356000" y="3284640"/>
            <a:ext cx="4248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4:06:09Z</dcterms:created>
  <dc:creator>ISS</dc:creator>
  <dc:description/>
  <dc:language>en-US</dc:language>
  <cp:lastModifiedBy>geo6pk</cp:lastModifiedBy>
  <dcterms:modified xsi:type="dcterms:W3CDTF">2005-05-06T10:11:14Z</dcterms:modified>
  <cp:revision>8</cp:revision>
  <dc:subject/>
  <dc:title>LONDON</dc:title>
</cp:coreProperties>
</file>